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31DF-F6FE-4E95-A7AD-198C448A4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B7ED-A485-4529-9F13-3D9C416BE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ld deterioration of kidney function does not usually cause any symp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D682-1592-48D6-A964-518A27E95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renal function deteriorates to 30%, patients develop symp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95AE-7BD5-42C5-A5D5-D3BBB3A20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renal functions deteriorates to 15%, patients may require renal replacement therapy to sustain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3904-0029-4B80-B759-AEF7E5090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mptoms of Renal Failure : Fatigue and weakness due to anaemia and accumulation of toxic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7FE8-4F63-41C8-92BD-5A65BB290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Loss of appetite, nausea and vomiting  due to accumulation of toxic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359-2C92-4617-9AB9-E0FDDC7D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dal oedema and facial puffiness Due to accumulation of water in the bo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9706-7940-420A-A843-4BA5EA17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Difficulty in breathing due to water accumulation in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F6F2-7FC1-4342-8F7D-75A8D76EF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Itchiness of skin due to accumulation of toxic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D175-24B1-4DB1-851D-F672861C4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low and pallor     due to anaem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E4DF-25B2-47A2-9E1C-D7F09C49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gh bloo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0C6-207A-4989-95D2-4887C3025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ke home message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Majority of patients have no signs and symptoms during early kidney fail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0975-A490-47C3-9112-6FE040A0A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tuated at the centre of the back, below the rib c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63C-F2EB-442A-A44E-082F4BDF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iminates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B3AB-1288-4BE6-B818-F568F201C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gulate water and electrolytes in the bo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6BA0-DD75-42FC-AB9F-532C07FE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gulation of bloo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5FB5-A1E4-4123-9614-B0089874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duction of erythropoeitin hormone for the production of 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5B2C-30BE-4FE6-B38B-09D65C4C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E58-31E7-4013-B473-D67D4C96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duction of active Vitamin D for bone calc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DA8-64F1-4996-8686-3938AA1D8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015-2F84-4DF0-8D89-6280AF7B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B32-6491-4D0C-8A42-178BB158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7FCE6-68E4-4E0B-B3B2-A1D260DC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47A78-2CE7-4F96-8C6B-69EDFA14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F5F3C-C170-40C5-B8B6-C3D5AAB6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6F05B-0F46-4149-9003-2B98876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D7690-2470-4470-A6DE-C406F733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2A881-A24D-4CC4-9CA6-F620DA4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18B69-0483-4B5E-A9E0-E207DF9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8DDF4-F54B-4BC2-ABF0-6CF2BE0A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AA759-26ED-423B-BE24-8A822729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1EA85-E203-4351-B92F-B8878CF6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461-D4DE-4763-ADB5-76E1358B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DA808-E111-4085-B288-4438B14F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EFA5E-2DB7-46FE-A321-51E2DD0B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EB1F3-31D3-442D-A2D4-AAF10D1D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7B06C-B2E3-405E-B624-B52532F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38F95-A775-44BD-B43B-0CDC87AE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781C6-6EA0-4557-AEC8-5FC04621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74692-1DDC-4A43-928F-35D139C2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D22A4-AC40-4FA8-98C7-0934E9E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B790E-E2FB-4679-9649-34971F8D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68E8A-CFCA-456C-9EB3-2C1D6548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F01-DBF4-4F6A-B65D-E01DB456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910B4-6B1F-43CD-A049-AD6A340A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C0BD-6146-41FC-94FD-C05C5917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07063-4CCE-4A15-9598-2329A8B8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749F0-5E67-48D3-BE85-6231E547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97079-1B80-4864-A4F9-FFED52E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28052-65B1-434E-9CCF-AA2B2D78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9E699-7FEB-4ACF-8F93-516D39C6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7AD72-A6BB-4B9C-B928-0CAEE67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FA1E6-659D-4177-8215-E6038471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732F3-98DF-4F82-BC1C-9DAE2419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D383-C4A2-48EB-AB0D-2F1A3EAB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E78FA-7642-4BBF-801C-7B94FADE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70A80-36C1-4F20-A8F0-05005492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E65BD-3BBE-4700-9A5D-F234EA59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DBF70-AA55-45A5-93FB-C191564C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5D5C5-019C-42C8-9B63-02DE7445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3AD1A-54DF-4531-B62D-587ED227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CAC59-BFED-42CF-AC50-5082A3BE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F0AA4-4432-4440-9771-EC7263DF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9DA46-A843-4ACC-94F5-C76AE614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F8F7B-FAF3-4E60-BFFE-79AE5658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56DA-E02D-44EC-966C-5AD49966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FD890-F120-45C8-9A9A-62D955C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9BD19-A01A-48D0-8042-EC0016C8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22E33-4B21-4A04-9254-4BFB8BFC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C34E2-F749-440C-B942-6E3BDBDA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42483-D7E7-4151-8670-7BD85000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70B9-4832-402E-9508-1516BDD4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ACF6-D0A8-4722-951F-68684B9C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CC13-A13F-44FB-BE74-76D96385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CE06-BD3A-4392-942A-74BD32B4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556A-9856-4002-90E1-27C9F20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50D-323B-4E0A-B7C5-0911A483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3623-7897-481A-8DC4-AA95A8A4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D9D7-E6F3-4146-9727-4BE0B366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EDC-7754-4F04-8E4F-5A6E3495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3F90-E02E-4249-A05A-B2AD9135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728B-5CB4-4EC6-B691-99226D34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4975-99BE-4161-A945-CBBC7D57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D8C4-BD8A-4A4A-A288-476DAA24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BE5C-20E0-4811-8638-E1C9C66A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02D5-084D-4CE8-A225-76DC77B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DAE5-764B-44D2-8036-4F8756CE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671-A2DD-489D-9989-735DF9E2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743E-B243-456C-B062-8C6A9F1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9437-082D-40F4-B0A2-8C0A1860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3DC1-7C8C-4571-92A9-14E7587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9674-885D-4690-9D73-CD96687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091E-17CC-4957-8F5C-19BC48D5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A03A-81C0-4574-B3D3-12A33698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4D46-B84A-4D3E-8D1E-856F8590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6CB1-5D09-4617-9E28-32311EA5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CFB16-359E-4EE1-B000-AB07FE9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8EA7-2836-4BE8-8697-4632D705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8D0-6F95-4C61-9232-AACBE074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6FE23-1114-4668-AC3F-22FFC3F6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E533D-B00C-43A7-840B-B227AA40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D63A-FB11-4FAB-A0B8-5DD15F97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5C627-75D0-4238-96C6-A44D9E54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52F6-4D73-4337-A325-EB118BF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13CB1-4F49-4EAB-8418-A4122C4E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EE9C-5A2B-4522-B624-61B78BCC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E6BB-2928-49AF-BA25-7D7E7A71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21EB-356C-43BD-8CC3-73784099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BE50-BFEA-45FC-93D6-1065A882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099-DF21-4659-80AB-5D761689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E82D4-7DA5-403D-BA90-517FE71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9F8F1-7338-47FD-ACBE-6190053F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F3BA4-FD39-44FF-8E99-58412E0D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34779-B623-415C-AC84-25314420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56961-084E-4A03-A53E-39412E0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79EFC-80DC-440B-9C23-6FE79D76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66DC2-400A-4E4E-986A-58915D54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DD5D-7DA8-4F1A-8279-E84121B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61A3-159A-4873-806E-831EE4CB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0F040-FF7D-4DA6-8742-1EBF4C60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D02-5939-4DB3-83E5-E3F90127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29DE-A8EE-453B-9791-6B92C8EB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BFCC7-3BDF-446A-A609-59363F8F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F8B25-CC97-4099-B799-4F0F5246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1651B-1836-4C97-AA38-032AAB85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9B03-01B3-4E2E-B0F5-F7C56D8C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6192-B620-48A0-8297-5494F0D6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D807-32DF-4649-8FF3-BA5EE61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87CC4-CE44-4E4F-8752-AF08EBB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B972E-7ADD-493B-82EE-84EB080D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7D25B-7714-48E3-982E-6C6F560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6E4-F75E-465D-B4BD-9739C497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8FC3-19F3-4FAF-A074-5CDCA462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1E63E-C220-494C-A5BC-FD14EEE8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BC768-00CF-455F-B250-E2B643BD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0B0C4-B74C-4947-95EE-78EF094B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35A1-0B74-40EE-85E2-B09DE4E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39DED-6D30-4A26-B7B3-13D8121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D96E-E200-4B4A-8845-3EC466AA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6932B-0533-4017-9692-4197E4E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9807-6E16-4B4A-8FF1-59C5A2E6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DB6D-B93E-489A-8C5F-19CBD8A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BFB-F1C9-4B23-BFF0-718912A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03916-B779-4451-A9CF-F6886332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8F8AA-29D5-45F9-AAAB-BF9405F4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E6FB6-599C-4DE9-B882-DF587A2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E5E2E-50F3-4A28-B95C-74BFC5E5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EB71-7866-428F-832C-D40CE267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DAB86-373E-4E2D-952D-891977AD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53905-4311-4826-A223-7ADD10E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B0DE1-0F0B-411B-A18A-7BFBA0B7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3DAB1-C2CE-4118-9B67-C5667DAE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771C-3976-4095-8835-C579D982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55A-8630-458E-B208-C072F05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F8503-815D-4DF0-A155-D0FC5F12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969C5-2412-43AB-A8D9-86400C39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D492C-1A29-43E2-A70D-26C3F22C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5A0F-978A-4484-9A12-E5795D6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6928A-212F-4704-9789-36D53025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C561E-3777-429C-93B7-8C35E843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3F3E-8972-4646-B43D-6BD9165D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45136-2349-468E-89F9-632D4EBA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BB927-CA1A-4948-B74F-9A887FD0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EAA95-FC44-4EFF-B0EA-30DB231C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1E1D8-E5A1-4216-9F3A-70A8F746FF0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9B873-27D4-4224-8CB5-A7A8954F21A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4850-C4EA-480D-8A46-CDC292374810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015F-83F1-41E0-9D28-97A24853187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292E-6F9E-4A0A-A821-844168E0A5C7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1DA3-5CE1-418E-9942-A8C412E87D9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6EF3-2BC1-4E0A-99BA-1554BF13E954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5E44-67BE-4C00-8746-643C424AE99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0644-5F90-4B68-A620-89EC42D67B7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C822-B4F3-400E-AE78-9500FC844EC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3DA0-19DB-4E95-910E-A6F87AC60B21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E79B-FB1C-4900-809D-04F62782552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0F79-7083-4C24-A4EC-BDBB7B388626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533A-4FCB-4D71-8689-6774990727C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0D0-2EAA-457C-BD84-2A331D7D8B74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4706-6CF0-4693-B622-0B52957FBF4B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1399-2BE5-4102-8B69-C097A8CA2B01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945-5208-45BB-8250-3878DE1B6266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6684-83AC-4E8F-9EAE-6624D39D8A33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E57C-EAA0-4389-87E2-13C51CD43E96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74EF-BC25-44DC-B822-B1815A1C2481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B9CA-5472-4CE2-891F-1356498C2E3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627F-8AD0-4B21-81A9-F7DFC71F02C3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70E7-F744-4168-BAF6-7BD7BF65DFF7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68520"/>
            <a:ext cx="75438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FUNGSI-FUNGSI GINJ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09120" y="5257440"/>
            <a:ext cx="792324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MODUL LATIHAN PARAMEDIK UNTUK </a:t>
            </a:r>
            <a:r>
              <a:rPr b="1" i="1" lang="en-US" sz="2200" spc="-1" strike="noStrike">
                <a:solidFill>
                  <a:srgbClr val="344068"/>
                </a:solidFill>
                <a:latin typeface="Calibri Light"/>
              </a:rPr>
              <a:t>CLINICAL PRACTICE GUIDELINES (CPG)  </a:t>
            </a:r>
            <a:br>
              <a:rPr sz="2200"/>
            </a:b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RAWATAN PENYAKIT GINJAL KRONIK (</a:t>
            </a:r>
            <a:r>
              <a:rPr b="1" i="1" lang="en-US" sz="2200" spc="-1" strike="noStrike">
                <a:solidFill>
                  <a:srgbClr val="344068"/>
                </a:solidFill>
                <a:latin typeface="Calibri Light"/>
              </a:rPr>
              <a:t>CKD</a:t>
            </a: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) DEWASA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6392-6907-4F97-AC9F-2009D5B0E5A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7400880" y="85680"/>
            <a:ext cx="1646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23520" y="1980720"/>
            <a:ext cx="7162920" cy="40388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233280" indent="-233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merosotan fungsi ginjal pada peringkat awal biasanya tidak menunjukkan tanda atau gejala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F891-7576-4072-A3AF-EDF26FFD2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62120" y="2286000"/>
            <a:ext cx="3808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762120" y="3886200"/>
            <a:ext cx="38088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1629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Kemerosotan fungsi ginj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218960" y="2133720"/>
            <a:ext cx="7391160" cy="35812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ka fungsi ginjal kurang daripada 30%, tanda dan gejala akan mula muncul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CC34-265F-4973-8462-B20EEA637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685800" y="2209680"/>
            <a:ext cx="30492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685800" y="4724280"/>
            <a:ext cx="3049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88" name="Title 1"/>
          <p:cNvSpPr/>
          <p:nvPr/>
        </p:nvSpPr>
        <p:spPr>
          <a:xfrm>
            <a:off x="1600200" y="380880"/>
            <a:ext cx="716292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MS PGothic"/>
              </a:rPr>
              <a:t>Kemerosotan 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MS PGothic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352160" y="2133720"/>
            <a:ext cx="7257960" cy="35812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ka fungsi ginjal merosot ke tahap &lt;15%, pesakit memerlukan rawatan penggantian fungsi ginjal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nal replacement thera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untuk meneruskan kehidupan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0022-392D-476A-899F-9A9C01C22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685800" y="2209680"/>
            <a:ext cx="30492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685800" y="5410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94" name="Title 1"/>
          <p:cNvSpPr/>
          <p:nvPr/>
        </p:nvSpPr>
        <p:spPr>
          <a:xfrm>
            <a:off x="1600200" y="380880"/>
            <a:ext cx="716292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MS PGothic"/>
              </a:rPr>
              <a:t>Kemerosotan 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MS PGothic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523520"/>
            <a:ext cx="8153280" cy="44960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dan berasa letih lesu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anaemia dan pengumpulan bahan-bahan toksi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2DB1-FB4F-495B-BA23-58A557707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ubbvl02v[1]"/>
          <p:cNvPicPr/>
          <p:nvPr/>
        </p:nvPicPr>
        <p:blipFill>
          <a:blip r:embed="rId1"/>
          <a:stretch/>
        </p:blipFill>
        <p:spPr>
          <a:xfrm>
            <a:off x="5614920" y="3786120"/>
            <a:ext cx="2979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urang selera, loya dan muntah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pengumpulan bahan-bahan toksi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A41C-A2C1-4EA2-A855-B171A027E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02" name="Picture 8" descr=""/>
          <p:cNvPicPr/>
          <p:nvPr/>
        </p:nvPicPr>
        <p:blipFill>
          <a:blip r:embed="rId1"/>
          <a:stretch/>
        </p:blipFill>
        <p:spPr>
          <a:xfrm>
            <a:off x="6377040" y="38592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6840" y="1599840"/>
            <a:ext cx="8077320" cy="43434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ngkak kaki dan muk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kegagalan ginjal membuang air yang berlebihan dari bad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F677-404B-4CF6-9A3A-2900EE2AE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06" name="Picture 6" descr=""/>
          <p:cNvPicPr/>
          <p:nvPr/>
        </p:nvPicPr>
        <p:blipFill>
          <a:blip r:embed="rId1"/>
          <a:stretch/>
        </p:blipFill>
        <p:spPr>
          <a:xfrm>
            <a:off x="6377040" y="3633840"/>
            <a:ext cx="2101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kar bernafa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gagalan ginjal membuang air yang berlebihan dari badan menyebabkan ia berkumpul di paru-paru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D78C-D490-4A5D-B18B-711E33644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8" descr="http://www.smasa.asn.au/smartplay/ouch/medical/asthma/images/asthma2.gif"/>
          <p:cNvPicPr/>
          <p:nvPr/>
        </p:nvPicPr>
        <p:blipFill>
          <a:blip r:embed="rId1"/>
          <a:stretch/>
        </p:blipFill>
        <p:spPr>
          <a:xfrm>
            <a:off x="5767560" y="4091040"/>
            <a:ext cx="2670120" cy="20541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gatalan kuli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pengumpulan bahan toksik (urea atau fosfat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D2E2-7284-457B-8941-F6B85ECDD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http://www.healthtipsandguides.net/wp-content/uploads/2011/05/Itchy-Skin.jpg"/>
          <p:cNvPicPr/>
          <p:nvPr/>
        </p:nvPicPr>
        <p:blipFill>
          <a:blip r:embed="rId1"/>
          <a:stretch/>
        </p:blipFill>
        <p:spPr>
          <a:xfrm>
            <a:off x="5919840" y="3754440"/>
            <a:ext cx="2413080" cy="24145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5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c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an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9277-EEE4-4AEA-A1D8-11AE9060F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6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tretch/>
        </p:blipFill>
        <p:spPr>
          <a:xfrm>
            <a:off x="5062680" y="3581280"/>
            <a:ext cx="33336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kanan darah tinggi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B6DF-0D8E-4B7A-9710-A534D7E82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8" descr="http://usermeds.com/static/089da787e4a1d1cfa86d8090e19baefd.jpg"/>
          <p:cNvPicPr/>
          <p:nvPr/>
        </p:nvPicPr>
        <p:blipFill>
          <a:blip r:embed="rId1"/>
          <a:stretch/>
        </p:blipFill>
        <p:spPr>
          <a:xfrm>
            <a:off x="5767560" y="3657600"/>
            <a:ext cx="2717640" cy="26208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7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RANGKA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7772400" cy="2209680"/>
          </a:xfrm>
          <a:prstGeom prst="rect">
            <a:avLst/>
          </a:prstGeom>
          <a:solidFill>
            <a:srgbClr val="d3f5f6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PAKAH GINJA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FUNGSI-FUNGSI GINJ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TANDA DAN GEJALA PENYAKIT GINJ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62B8-1AC9-474F-A800-085446F20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Kesimpula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447920"/>
            <a:ext cx="8153280" cy="44956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Kebanyakan pesakit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SimSun"/>
              </a:rPr>
              <a:t>TIAD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gejala dan tanda yang jelas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pada peringkat awal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CKD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0A3B-10FF-4EE8-BE53-B64CC9D52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358164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TERIMA KASIH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5E7-9473-42B2-A44D-99A0911C5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8814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Apakah ginjal?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sang organ berbentuk kacang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letak di pertengahan belakang, di bawah tulang rusuk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A48B-F693-4D42-8D5B-756A35555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8" descr="pg2"/>
          <p:cNvPicPr/>
          <p:nvPr/>
        </p:nvPicPr>
        <p:blipFill>
          <a:blip r:embed="rId1"/>
          <a:stretch/>
        </p:blipFill>
        <p:spPr>
          <a:xfrm>
            <a:off x="6791400" y="2828880"/>
            <a:ext cx="18097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uang bahan kumuh/toksik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Ure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reatin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Fosfa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Lain-lai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6900-A18A-4E26-BBC7-2084F8AD0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21"/>
          <p:cNvGraphicFramePr/>
          <p:nvPr/>
        </p:nvGraphicFramePr>
        <p:xfrm>
          <a:off x="5784840" y="3429000"/>
          <a:ext cx="27813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4840" y="3429000"/>
                    <a:ext cx="27813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awal keseimbangan paras air dan elektrolit dalam bad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6E46-17E5-4D5F-8CA7-428FC1F61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21"/>
          <p:cNvGraphicFramePr/>
          <p:nvPr/>
        </p:nvGraphicFramePr>
        <p:xfrm>
          <a:off x="5715000" y="3200400"/>
          <a:ext cx="2622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2622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awal tekanan darah melalui mekanisma seperti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ensi air dan sodium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perti renin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BC4C-DAAC-4643-A3C9-E81639FF6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bpcuff"/>
          <p:cNvPicPr/>
          <p:nvPr/>
        </p:nvPicPr>
        <p:blipFill>
          <a:blip r:embed="rId1"/>
          <a:stretch/>
        </p:blipFill>
        <p:spPr>
          <a:xfrm>
            <a:off x="6181560" y="3213000"/>
            <a:ext cx="2548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hasilkan hormon eritropoeitin yang mengawal penghasilan sel darah merah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7069-42A5-40BC-B490-EF484C057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http://www.scientiapress.com/wp/wp-content/uploads/2011/12/red-blood-cells.jpg"/>
          <p:cNvPicPr/>
          <p:nvPr/>
        </p:nvPicPr>
        <p:blipFill>
          <a:blip r:embed="rId1"/>
          <a:stretch/>
        </p:blipFill>
        <p:spPr>
          <a:xfrm>
            <a:off x="5346720" y="3591000"/>
            <a:ext cx="31273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9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Hormon eritropoeiti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0880" y="1523880"/>
            <a:ext cx="8382240" cy="47246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4C39-E64E-4000-9FBC-9FDFCC962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5400000">
            <a:off x="4975560" y="1500840"/>
            <a:ext cx="716040" cy="1676520"/>
          </a:xfrm>
          <a:prstGeom prst="downArrow">
            <a:avLst>
              <a:gd name="adj1" fmla="val 50000"/>
              <a:gd name="adj2" fmla="val 58534"/>
            </a:avLst>
          </a:prstGeom>
          <a:solidFill>
            <a:srgbClr val="008000"/>
          </a:solidFill>
          <a:ln w="66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914400" y="1959120"/>
            <a:ext cx="3390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RITROPOEITIN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4786200" y="462276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5715000" y="5486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 DARAH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own Arrow 13"/>
          <p:cNvSpPr/>
          <p:nvPr/>
        </p:nvSpPr>
        <p:spPr>
          <a:xfrm>
            <a:off x="457200" y="1981080"/>
            <a:ext cx="331920" cy="596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1" descr=""/>
          <p:cNvPicPr/>
          <p:nvPr/>
        </p:nvPicPr>
        <p:blipFill>
          <a:blip r:embed="rId1"/>
          <a:stretch/>
        </p:blipFill>
        <p:spPr>
          <a:xfrm>
            <a:off x="6224760" y="1573200"/>
            <a:ext cx="2286000" cy="2444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"/>
          <p:cNvPicPr/>
          <p:nvPr/>
        </p:nvPicPr>
        <p:blipFill>
          <a:blip r:embed="rId2"/>
          <a:stretch/>
        </p:blipFill>
        <p:spPr>
          <a:xfrm>
            <a:off x="390600" y="2627280"/>
            <a:ext cx="1236600" cy="359748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9"/>
          <p:cNvSpPr/>
          <p:nvPr/>
        </p:nvSpPr>
        <p:spPr>
          <a:xfrm>
            <a:off x="1066680" y="430848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5" descr=""/>
          <p:cNvPicPr/>
          <p:nvPr/>
        </p:nvPicPr>
        <p:blipFill>
          <a:blip r:embed="rId3"/>
          <a:stretch/>
        </p:blipFill>
        <p:spPr>
          <a:xfrm>
            <a:off x="2505240" y="3535200"/>
            <a:ext cx="2060280" cy="22003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6" descr=""/>
          <p:cNvPicPr/>
          <p:nvPr/>
        </p:nvPicPr>
        <p:blipFill>
          <a:blip r:embed="rId4"/>
          <a:stretch/>
        </p:blipFill>
        <p:spPr>
          <a:xfrm>
            <a:off x="5767560" y="4114800"/>
            <a:ext cx="1792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5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76520"/>
            <a:ext cx="8305920" cy="44956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hasilkan vitamin D yang aktif untuk kalsifikasi tulang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86D-B229-42CC-92CE-24855D97C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8" descr="http://www.thevisualmd.com/biomarkerlibrary/images/content/304/QD3350_CARD_VitaminD_C01_HealthyBones.jpg"/>
          <p:cNvPicPr/>
          <p:nvPr/>
        </p:nvPicPr>
        <p:blipFill>
          <a:blip r:embed="rId1"/>
          <a:stretch/>
        </p:blipFill>
        <p:spPr>
          <a:xfrm>
            <a:off x="6297480" y="3786120"/>
            <a:ext cx="24195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25:52Z</dcterms:created>
  <dc:creator>Dr. Ong Loke Meng</dc:creator>
  <dc:description/>
  <dc:language>en-US</dc:language>
  <cp:lastModifiedBy>Dr. Mohd. Aminuddin</cp:lastModifiedBy>
  <dcterms:modified xsi:type="dcterms:W3CDTF">2019-05-16T03:16:06Z</dcterms:modified>
  <cp:revision>228</cp:revision>
  <dc:subject/>
  <dc:title>MANAGEMENT OF  CHRONIC KIDNEY DISEASE IN ADULTS</dc:title>
</cp:coreProperties>
</file>